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E94-62DD-45B2-9742-73A18683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97B-BD43-4FE7-84CA-A869E93E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DDC-3F87-445C-BF7D-97F61359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738-C106-4AC8-92A6-E4922859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D17-CE8C-4875-906A-CC6F1143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CC0-D29A-4336-B3DD-232D0375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9A5-44A9-4463-8A5F-F0B1AA77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9A9-848F-4969-B5F6-5254688B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1B3-4CB7-4686-8BDC-579CB08A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765-7D59-4391-B9A9-9AF8CED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835-FA25-4666-A420-837DC23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9E5-B7FE-4B94-82A6-0BB8D888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E3DA-5DA6-470D-868B-435A6CB5D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8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2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3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0" y="1981080"/>
            <a:ext cx="25909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anque 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5"/>
          <p:cNvSpPr/>
          <p:nvPr/>
        </p:nvSpPr>
        <p:spPr>
          <a:xfrm>
            <a:off x="2590920" y="1981080"/>
            <a:ext cx="2133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Le client est la personne la plus performante de l’entreprise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47242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° ve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2590920" y="30481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Notre métier est de servir le cli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4732200" y="30481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dédié rattaché à la D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37339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aîne d’hôtels 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590920" y="37339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s suggestions nous intéress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724280" y="37339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s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2590920" y="44197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us êtes ici chez vous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4732200" y="44197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ndages réguliers auprès des clients abonn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51055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pagnie d’aviation 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Contre-exem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2590920" y="5105520"/>
            <a:ext cx="21333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Faire du ciel le plus bel endroit de la ter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4724280" y="5105520"/>
            <a:ext cx="2133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réponse aux lettres de récla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4732200" y="2438280"/>
            <a:ext cx="212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ercles d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0" y="64771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51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dre à 100 %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52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des lettr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53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3:16Z</dcterms:modified>
  <cp:revision>13</cp:revision>
  <dc:subject/>
  <dc:title>Présentation PowerPoint</dc:title>
</cp:coreProperties>
</file>